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ACD-EDE7-46B7-84F2-6AF04502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A97-F892-41C2-AB8C-F65E0255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2F6-4B17-4A05-BD4E-60615B87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B1B-4840-4DEF-A100-BDCC7D28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1A-1CFE-4947-BEC5-B52B59D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33D-EFB8-49E9-BA6C-B2C365D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D6C-07CB-4E8E-A434-C1E9F3EB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33E-296D-4099-9230-330CE374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B13-D30F-4394-B250-C0815F77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D52-6D55-4C82-8A49-36CBC63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662-6978-4192-8EDB-D12C8696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3DF-756C-4F28-BD8D-DFB591F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95E-45A6-4736-862D-6EE7C663AD38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57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Заседание клуба любознательны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308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Monotype Corsiva"/>
              </a:rPr>
              <a:t>Химические элементы в жизни человека.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-702360" y="0"/>
            <a:ext cx="706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onotype Corsiva"/>
              </a:rPr>
              <a:t>Горение желе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onotype Corsiva"/>
              </a:rPr>
              <a:t>в присутствии кисл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горение железа.avi" descr=""/>
          <p:cNvPicPr/>
          <p:nvPr/>
        </p:nvPicPr>
        <p:blipFill>
          <a:blip r:embed="rId1"/>
          <a:stretch/>
        </p:blipFill>
        <p:spPr>
          <a:xfrm>
            <a:off x="428760" y="1231920"/>
            <a:ext cx="8215200" cy="53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17375e"/>
                </a:solidFill>
                <a:latin typeface="Monotype Corsiva"/>
              </a:rPr>
              <a:t>Ржавление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cuments and Settings\Ira\Рабочий стол\железо\интересное\коррозия\3.jpg"/>
          <p:cNvPicPr/>
          <p:nvPr/>
        </p:nvPicPr>
        <p:blipFill>
          <a:blip r:embed="rId1"/>
          <a:stretch/>
        </p:blipFill>
        <p:spPr>
          <a:xfrm>
            <a:off x="-17640" y="1143000"/>
            <a:ext cx="9183960" cy="571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Documents and Settings\Ira\Рабочий стол\железо\интересное\коррозия\truba_kor.gif"/>
          <p:cNvPicPr/>
          <p:nvPr/>
        </p:nvPicPr>
        <p:blipFill>
          <a:blip r:embed="rId2"/>
          <a:stretch/>
        </p:blipFill>
        <p:spPr>
          <a:xfrm>
            <a:off x="928800" y="2928960"/>
            <a:ext cx="821520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2814480" y="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Кутубская колон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6,5 тон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7,3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Ira\Рабочий стол\железо\445px-QtubIronPillar.jpg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Ira\Рабочий стол\железо\full1281475072.jpg"/>
          <p:cNvPicPr/>
          <p:nvPr/>
        </p:nvPicPr>
        <p:blipFill>
          <a:blip r:embed="rId2"/>
          <a:stretch/>
        </p:blipFill>
        <p:spPr>
          <a:xfrm>
            <a:off x="0" y="1214280"/>
            <a:ext cx="4286160" cy="564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305640" y="549360"/>
            <a:ext cx="97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Доброе слово железные вор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ткрывает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98200" y="4365720"/>
            <a:ext cx="930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огда счастье улыбне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 железо золотом обернетс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-703800" y="2492280"/>
            <a:ext cx="76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з железного бочонка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пли не просочитс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5"/>
          <p:cNvSpPr/>
          <p:nvPr/>
        </p:nvSpPr>
        <p:spPr>
          <a:xfrm>
            <a:off x="-177840" y="92880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Знакомы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190600" y="2786040"/>
            <a:ext cx="599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знаком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928880" y="2786040"/>
            <a:ext cx="17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н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5"/>
          <p:cNvSpPr/>
          <p:nvPr/>
        </p:nvSpPr>
        <p:spPr>
          <a:xfrm>
            <a:off x="-177840" y="92880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Знакомы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1950480" y="278604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незнаком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Ira\Рабочий стол\железо1\пирит и железо\пири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57120" y="214200"/>
            <a:ext cx="2000160" cy="82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ири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304920" y="476280"/>
            <a:ext cx="374940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" descr=""/>
          <p:cNvPicPr/>
          <p:nvPr/>
        </p:nvPicPr>
        <p:blipFill>
          <a:blip r:embed="rId2"/>
          <a:stretch/>
        </p:blipFill>
        <p:spPr>
          <a:xfrm>
            <a:off x="4138560" y="573120"/>
            <a:ext cx="5072040" cy="61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7375e"/>
                </a:solidFill>
                <a:latin typeface="Monotype Corsiva"/>
              </a:rPr>
              <a:t>Металл </a:t>
            </a:r>
            <a:br>
              <a:rPr sz="6600"/>
            </a:br>
            <a:r>
              <a:rPr b="0" lang="ru-RU" sz="6600" spc="-1" strike="noStrike">
                <a:solidFill>
                  <a:srgbClr val="17375e"/>
                </a:solidFill>
                <a:latin typeface="Monotype Corsiva"/>
              </a:rPr>
              <a:t>«капнувший с неб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Ira\Рабочий стол\железо1\пирит и железо\железо 1.jpg"/>
          <p:cNvPicPr/>
          <p:nvPr/>
        </p:nvPicPr>
        <p:blipFill>
          <a:blip r:embed="rId1"/>
          <a:stretch/>
        </p:blipFill>
        <p:spPr>
          <a:xfrm>
            <a:off x="39600" y="1785960"/>
            <a:ext cx="9104400" cy="50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Ira\Рабочий стол\железо1\вселенная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Тунгусский метеорит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1908 год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50 000 тон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Ira\Рабочий стол\железо1\метеориты\Тунгусский метеорит.jpg"/>
          <p:cNvPicPr/>
          <p:nvPr/>
        </p:nvPicPr>
        <p:blipFill>
          <a:blip r:embed="rId1"/>
          <a:stretch/>
        </p:blipFill>
        <p:spPr>
          <a:xfrm>
            <a:off x="714240" y="2428920"/>
            <a:ext cx="7715520" cy="44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Ira\Рабочий стол\железо1\метеориты\падение метеорита 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Метеорит Богуслава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1916 год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Дальневосточный кра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Ira\Рабочий стол\железо1\метеориты\метеорит Богуслава.bmp"/>
          <p:cNvPicPr/>
          <p:nvPr/>
        </p:nvPicPr>
        <p:blipFill>
          <a:blip r:embed="rId1"/>
          <a:stretch/>
        </p:blipFill>
        <p:spPr>
          <a:xfrm>
            <a:off x="3714840" y="2428920"/>
            <a:ext cx="5429160" cy="442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Ira\Рабочий стол\железо1\метеориты\падение метеорита Богуславка jpg.jpg"/>
          <p:cNvPicPr/>
          <p:nvPr/>
        </p:nvPicPr>
        <p:blipFill>
          <a:blip r:embed="rId2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Метеорит «Гоба»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вес 60 тонн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Monotype Corsiva"/>
              </a:rPr>
              <a:t>1920 год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C:\Documents and Settings\Ira\Рабочий стол\железо1\метеориты\Место падения Гоба.jpg"/>
          <p:cNvPicPr/>
          <p:nvPr/>
        </p:nvPicPr>
        <p:blipFill>
          <a:blip r:embed="rId1"/>
          <a:stretch/>
        </p:blipFill>
        <p:spPr>
          <a:xfrm>
            <a:off x="3071880" y="2384280"/>
            <a:ext cx="6072120" cy="447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Ira\Рабочий стол\железо1\метеориты\метеорит Гоба 2.jpg"/>
          <p:cNvPicPr/>
          <p:nvPr/>
        </p:nvPicPr>
        <p:blipFill>
          <a:blip r:embed="rId2"/>
          <a:stretch/>
        </p:blipFill>
        <p:spPr>
          <a:xfrm>
            <a:off x="3071880" y="2357280"/>
            <a:ext cx="6072120" cy="45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428920" y="357120"/>
            <a:ext cx="235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е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аз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ито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3"/>
          <p:cNvCxnSpPr/>
          <p:nvPr/>
        </p:nvCxnSpPr>
        <p:spPr>
          <a:xfrm flipV="1">
            <a:off x="1714680" y="785160"/>
            <a:ext cx="714960" cy="78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5"/>
          <p:cNvCxnSpPr/>
          <p:nvPr/>
        </p:nvCxnSpPr>
        <p:spPr>
          <a:xfrm flipV="1">
            <a:off x="1714680" y="1356840"/>
            <a:ext cx="786240" cy="21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7"/>
          <p:cNvCxnSpPr/>
          <p:nvPr/>
        </p:nvCxnSpPr>
        <p:spPr>
          <a:xfrm>
            <a:off x="1785960" y="1571760"/>
            <a:ext cx="7149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9"/>
          <p:cNvCxnSpPr/>
          <p:nvPr/>
        </p:nvCxnSpPr>
        <p:spPr>
          <a:xfrm>
            <a:off x="1714680" y="1571760"/>
            <a:ext cx="786240" cy="1072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Прямоугольник 13"/>
          <p:cNvSpPr/>
          <p:nvPr/>
        </p:nvSpPr>
        <p:spPr>
          <a:xfrm>
            <a:off x="2357280" y="3286080"/>
            <a:ext cx="257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нер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ма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р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4"/>
          <p:cNvCxnSpPr/>
          <p:nvPr/>
        </p:nvCxnSpPr>
        <p:spPr>
          <a:xfrm>
            <a:off x="1357200" y="4857840"/>
            <a:ext cx="1000800" cy="714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18"/>
          <p:cNvCxnSpPr/>
          <p:nvPr/>
        </p:nvCxnSpPr>
        <p:spPr>
          <a:xfrm>
            <a:off x="1357200" y="4857840"/>
            <a:ext cx="92952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22"/>
          <p:cNvCxnSpPr/>
          <p:nvPr/>
        </p:nvCxnSpPr>
        <p:spPr>
          <a:xfrm flipV="1">
            <a:off x="1357200" y="3714120"/>
            <a:ext cx="92952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25"/>
          <p:cNvCxnSpPr/>
          <p:nvPr/>
        </p:nvCxnSpPr>
        <p:spPr>
          <a:xfrm flipV="1">
            <a:off x="1357200" y="4357080"/>
            <a:ext cx="92952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29"/>
          <p:cNvCxnSpPr/>
          <p:nvPr/>
        </p:nvCxnSpPr>
        <p:spPr>
          <a:xfrm>
            <a:off x="5714640" y="2571840"/>
            <a:ext cx="114372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30"/>
          <p:cNvCxnSpPr/>
          <p:nvPr/>
        </p:nvCxnSpPr>
        <p:spPr>
          <a:xfrm flipV="1">
            <a:off x="5713920" y="1285560"/>
            <a:ext cx="1143720" cy="1286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6"/>
          <p:cNvCxnSpPr/>
          <p:nvPr/>
        </p:nvCxnSpPr>
        <p:spPr>
          <a:xfrm flipV="1">
            <a:off x="5785920" y="1999800"/>
            <a:ext cx="1143720" cy="57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8"/>
          <p:cNvCxnSpPr/>
          <p:nvPr/>
        </p:nvCxnSpPr>
        <p:spPr>
          <a:xfrm>
            <a:off x="5714640" y="2571480"/>
            <a:ext cx="1215000" cy="786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Прямоугольник 40"/>
          <p:cNvSpPr/>
          <p:nvPr/>
        </p:nvSpPr>
        <p:spPr>
          <a:xfrm>
            <a:off x="6858000" y="857160"/>
            <a:ext cx="178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о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mbria"/>
              </a:rPr>
              <a:t>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6572160" y="3929040"/>
            <a:ext cx="214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р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дер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mbria"/>
              </a:rPr>
              <a:t>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9"/>
          <p:cNvCxnSpPr/>
          <p:nvPr/>
        </p:nvCxnSpPr>
        <p:spPr>
          <a:xfrm flipV="1">
            <a:off x="5499720" y="4285440"/>
            <a:ext cx="92916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0"/>
          <p:cNvCxnSpPr/>
          <p:nvPr/>
        </p:nvCxnSpPr>
        <p:spPr>
          <a:xfrm flipV="1">
            <a:off x="5500800" y="4857120"/>
            <a:ext cx="1000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3"/>
          <p:cNvCxnSpPr/>
          <p:nvPr/>
        </p:nvCxnSpPr>
        <p:spPr>
          <a:xfrm>
            <a:off x="5500800" y="5428800"/>
            <a:ext cx="1000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26"/>
          <p:cNvCxnSpPr/>
          <p:nvPr/>
        </p:nvCxnSpPr>
        <p:spPr>
          <a:xfrm>
            <a:off x="5500800" y="5428800"/>
            <a:ext cx="1000800" cy="71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1"/>
          <p:cNvSpPr/>
          <p:nvPr/>
        </p:nvSpPr>
        <p:spPr>
          <a:xfrm>
            <a:off x="928800" y="928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571680" y="4214880"/>
            <a:ext cx="7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5000760" y="2000160"/>
            <a:ext cx="7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4857840" y="4857840"/>
            <a:ext cx="7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714240" y="121428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28760" y="44290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4429080" y="22147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л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4714920" y="51436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8:33:29Z</dcterms:created>
  <dc:creator>Dom</dc:creator>
  <dc:description/>
  <dc:language>en-US</dc:language>
  <cp:lastModifiedBy>старт-мастер</cp:lastModifiedBy>
  <dcterms:modified xsi:type="dcterms:W3CDTF">2014-11-25T23:14:01Z</dcterms:modified>
  <cp:revision>37</cp:revision>
  <dc:subject/>
  <dc:title>Заседание клуба любознательных</dc:title>
</cp:coreProperties>
</file>